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2DE-B5C8-4E3D-A0F3-42C6DB9B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830-481C-48F9-9DC5-971FACA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DB7-21F7-4909-A848-E67DE3BB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1FF-221C-41BD-82DC-5BD28CF1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8D9-17B0-4412-9604-91D52C3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6BB-53A2-4522-8F44-B6C0E959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D51-65B1-4703-B0C9-0275A228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B23-41FE-4751-884F-27C83BC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F7A-7DAC-4E22-899B-E516953F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2A-A36C-4FAC-B8FA-8F0B66E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EEA-CB44-401D-ADC5-2060860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BBF-17A6-495F-86FF-B9D7710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4FF-6D65-47C2-A544-5E523A4DC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084680"/>
            <a:ext cx="8353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正视自己，改变自己，走向成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不少同学喜欢转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班级吃东西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随意扔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随意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上课有少数同学瞌睡、喝水、讲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值日不认真，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有少数同学时间抓得不紧，以上课铃声响来看自己是否该学习了，有少数同学经常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迟到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5627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评：（没有长远的目光，对自己的人生没有计划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84920" y="4952880"/>
            <a:ext cx="350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点评：习惯差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319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现象都是很平常细小的事情，每天都发生在我们身边或身上。为什么会出现这些现象，我们从自己身上找找原因，就像病人生病了总得先找出症状才能对症下药，否则他吃再多的药，他也不一定能治好病；一个学生如果不知道造成成绩差的真正原因是什么，即使他再怎样用功，他也不一定能提高成绩。——点评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这样的小事或许还有很多，日子一天天地过，事情一件件地做，不知不觉地就变成了你的一种习惯。坏习惯的力量是可怕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改变自己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坏习惯会让自己自食恶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389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年轻人向理发师学理发，师父要徒弟先拿冬瓜进行练习，用剃刀把冬瓜上的一层薄薄的毛剃干净但不能损坏冬瓜皮。徒弟每次都很细心地把这层毛剃得干干净净而且冬瓜皮完好无损。但是，他每次剃完之后都会顺手把剃刀插在冬瓜上。师父要徒弟改掉这个坏习惯，但徒弟总是说：“没事的，我以后为顾客理发时绝对不会这样做。”结果，当徒弟为第一个顾客理完发时，顺手就把剃刀往顾客头上一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9983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启示：我们一定要趁早改变坏习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：要让事情改变，先改变自己；要让事情变得更好，先让自己变得更好。如果你的成绩提不高，你不去改变学习方法和学习态度，即使换了班级换了老师也没用。只要你一改变，生活也会随之变动。美国成功哲学家金•洛恩说过这么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成功不是追求得来的，而是被改变后的自己主动吸引而来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改变习惯是需要一个过程的，所以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习惯是可以改变的。只要不断地重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754380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大家用右手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我自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出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努力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成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.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用左手写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886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这说明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介绍习惯形成的三个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心理学研究表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上的重复会形成习惯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的重复会形成稳定的习惯。即同一个动作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就会变成习惯性的动作；同样道理，任何一个想法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或者重复验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就会变成习惯性想法。所以，一个观念如果被别人或者自己验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以上，它一定已经变成了你的信念。习惯的形成大致分三个阶段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“刻意，不自然”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需要十分刻意提醒自己改变，而你也会觉得有些不自然，不舒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左右。不要放弃第一阶段的努力，继续重复，跨入第二阶段。此阶段的特征是：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“刻意，自然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你已经觉得比较自然，比较舒服了，但是一不留意，你还会回复到从前。因此，你还需要刻意提醒自己改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“不经意，自然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实这就是习惯。这一阶段被称为“习惯性的稳定期”。一旦跨入此阶段，一个人已经完成了自我改造，这项习惯就已经成为他生命中的一个有机组成部分，它会自然而然地不停地为人们“效劳”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了习惯形成的三个阶段之后，同学们商量看看有什么好办法来改变自己的坏习惯，形成好习惯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名言名句贴在桌上警惕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请老师同学督促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每天定下一个目标，时刻检查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619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问苏格拉底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什么最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743200"/>
            <a:ext cx="72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问同学们一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自己吗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8200" y="170028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格拉底答道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你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认真学是一天，不认真学也是一天，何不认认真真学习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等待机会，而要创造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不是将来才有的，而是从决定去做的那一刻起，持续累积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动是治愈恐惧的良药，而犹豫、拖延将不断滋养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将事前的忧虑，换为事前的思考和计划吧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长的路，一步步也能走完，再短的路，不迈开双脚也无法到达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业绩的质变都来自于量变的积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对的事情比把事情做对重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一种不通过蔑视、忍受和奋斗就可以征服的命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天生的信心，只有不断培养的信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一条路不能选择——那就是放弃的路；只有一条路不能拒绝——那就是成长的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能从别人的观念来看事情，能了解别人心灵活动的人永远不必为自己的前途担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人最大的破产是绝望，最大的资产是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昨晚多几分钟的准备，今天少几小时的麻烦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之所以能，是相信能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有信念者所开发出的力量，大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只有兴趣者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一发奋努力的背后，必有加倍的赏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生伟业的建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不在能知，乃在能行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的限制，都是从自己的内心开始的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含泪播种的人一定能含笑收获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欲望以提升热忱，毅力以磨平高山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多数人想要改造这个世界，但却罕有人想改造自己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积极的人在每一次忧患中都看到一个机会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消极的人则在每个机会都看到某种忧患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为失败找理由，要为成功找方法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伟人之所以伟大，是因为他与别人共处逆境时，别人失去了信心，他却下决心实现自己的目标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上没有绝望的处境，只有对处境绝望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界上那些最容易的事情中，拖延时间最不费力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句古话：江山易改，本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。这句话的涵义有两层：人的本性是很难改变的；人的本性虽然很难改变，但并非改变不了。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无论是什么做法，贵在坚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坚持你就可以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3400" y="357120"/>
            <a:ext cx="651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总        结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作家罗曼•罗兰有句名言：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性格即命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假如我们的本性中有一些阻碍成功的因素，我们如果不改变，岂不是注定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败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其实，每天克服自己一点点毛病，每天坚持进步一点点，我们就会离成功越来越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条小河流从遥远的高山上流下来，经过了很多个村庄与森林，最后来到了一个沙漠。它想：“我已经越过了重重的障碍，这次应该也可以越过这个沙漠吧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它决定越过这个沙漠的时候，它发现它的河水渐渐消失在泥沙当中，它试了一次又一次，总是徒劳无功，于是它灰心了。“也许这就是我的命运了，我永远到不了传说中那个浩瀚的大海。”它颓丧地自言自语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时候，四周响起了一阵低沉的声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微风可以跨越沙漠，那么河流也可以。”原来这是沙漠发出的声音。小河流很不服气地回答说：“那是因为微风可以飞过沙漠，可是我却不行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因为你坚持你原来的样子，所以你永远无法跨越这个沙漠。你必须让微风带着你飞过这个沙漠，到达你的目的地。只要你愿意放弃你现在的样子，让自己蒸发到微风中。”沙漠用它低沉的声音这么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河流从来不知道有这样的事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弃我现在的样子，然后消失在微风中？不！不！”小河流无法接受这样的概念，毕竟它从未有过这样的经验，叫它放弃自己现在的样子，那么不等于是自我毁灭了吗？“我怎么知道这是真的？”小河流这么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微风可以把水气包含在它之中，然后飘过沙漠，到了适当的地点，它就会把这些水气释放出来，于是就变成了雨水。然后这些雨水又会形成河流，继续向前进。”沙漠很有耐心地回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那我还是原来的河流吗？”小河流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说是，也可以说不是。”沙漠回答，“不管你是一条河流或是看不见的水蒸气，你内在的本质从来没有改变。你坚持你是一条河流，是因为你从来不知道自己内存的本质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时在小河流的心中，隐隐约约地想起了自己在变成河流之前，似乎也是由微风带着自己，飞到内陆某座高山的半山腰，然后变成雨水落下，才变成今日的河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小河流鼓起勇气，投入微风张开的手臂，消失在微风之中，让微风带着它，奔向它生命中的梦想。我们生命的历程也像小河流一样，想到跨越生命中的障碍，达到自己想要的成就，也需要有改变自我的决心与勇气，这样才能迈向未知的领域，达到生命的不断成长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讨     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六晚、周日时间怎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针对试卷特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怎样复习迎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午时间怎样安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首先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优  点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21614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尺有所短，寸有所长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每个人都有自己的优势和长处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天生我才必有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学会欣赏自己，学会暗示自己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可以，我能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不是因为有些事情难以做到，我们才失去自信；而是因为我们失去了自信，有些事情才显得难以做到。拥有自信我们就能逐步摆脱“事事不如人”阴影的困扰，就会感到生活有盼头，从而保持奋发向上的劲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92360" y="1242360"/>
            <a:ext cx="59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要想了解自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最好问问别人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信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孤芳自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也不是夜郎自大，更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得意忘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毫无根据的自以为是。我们要客观地看到在我们身上还存在这样或那样的问题，而这些正是我们通往成功之路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绊脚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515120"/>
            <a:ext cx="72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哪位同学有勇气来正视这些绊脚石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再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缺  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业不会做，把别人的作业或参考书上的答案不加思索地搬到作业本上以便交差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掩耳盗铃的做法，自欺欺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，我不会做，但我不想欺骗你，所以我不交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诚实的孩子，遇到问题为什么不想办法解决，而让自己的包袱越来越沉重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种都属于遇到问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逃避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缺乏知难而进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习课以讨论问题开始，闲聊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点评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制能力差，受不了诱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课时“身在曹营心在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专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去问老师问题或到校医室看病时顺便到外面散散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看到别人讲话，总忍不住要凑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自制力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36:35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3:12Z</dcterms:modified>
  <cp:revision>1</cp:revision>
  <dc:subject>主题班会课件(分28大类): http://shop62905894.taobao.com</dc:subject>
  <dc:title>主题班会课件(分28大类): http://shop62905894.taobao.com</dc:title>
</cp:coreProperties>
</file>